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0DC-D3C5-4D55-9266-DF6840FF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521-96A8-4E76-B06E-8FCAC77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9A2-66EC-4E4E-8C00-339BD677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FA6-F083-4C4B-AFF8-200C389D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817-CC35-46D9-9079-495F3279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4FB-3710-416A-96D0-7465107B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50A-4039-4873-AA2B-F536C18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BCF-E1E8-42EF-BE66-85AA3F7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D55-3E72-47DC-8745-5957BC3F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739-D23D-4F60-AADD-716E315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7C4-97B5-4D1B-A53A-64168B25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546-2F08-4048-ACC8-940D8ED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769-79F2-43D4-8289-175B36194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30240"/>
            <a:ext cx="5329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9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ивет теб, красиво утро! Божие слънце пак изгря! Погледнете колко чудно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зарява, без да спре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Върховете заблест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чудна, нова светлин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без думи изявяват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на Твореца любовта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5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2781360"/>
            <a:ext cx="5473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защо да сме унили?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ший Бог не е ли ж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ли в Него сме се скрил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Стълба Божи от Хорив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и скърби и страдания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един ден ще имат край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рез тез трудни изпитания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[: Той ни води в Божи рай!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932360" y="404640"/>
            <a:ext cx="388764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ffcc">
                <a:alpha val="50000"/>
              </a:srgbClr>
            </a:outerShdw>
          </a:effectLst>
        </p:spPr>
      </p:pic>
    </p:spTree>
  </p:cSld>
  <p:transition advTm="5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314280"/>
            <a:ext cx="395928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ffcc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3419640" y="2637000"/>
            <a:ext cx="550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ъщо тъй след нощния мр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греха и на смъртт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изгрее слънцето пак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на живот във любовта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ам Исус е това Слънц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любовта Му е спасение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О, възрадвайте се всичк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[: пейте Му хваление! :]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9:28:09Z</dcterms:created>
  <dc:creator>TrifonTrifonow</dc:creator>
  <dc:description/>
  <dc:language>en-US</dc:language>
  <cp:lastModifiedBy>TrifonTrifonow</cp:lastModifiedBy>
  <dcterms:modified xsi:type="dcterms:W3CDTF">2005-12-08T09:55:08Z</dcterms:modified>
  <cp:revision>13</cp:revision>
  <dc:subject/>
  <dc:title>Slide 1</dc:title>
</cp:coreProperties>
</file>